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FACFED-59EF-431A-BFAA-88379BCD4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055526-D861-4501-B96D-3D8BE2B5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A6420A-AA97-4957-822B-6954D796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90EF9A-0F23-41D1-BD38-494550F9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92C887-86B6-4FFA-92B7-D7A28318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9BE919-4789-4823-B9F5-7A8E7B88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39115D-5EB3-45AF-8A16-6E469B7C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8D09E6-7B54-4FE5-8738-0F36C2F3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1E1536-6D85-40FD-81F1-0A8E08AFC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865A1E-5900-4F82-B8DE-B67EBBD5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956131-FE9A-424F-AA0C-37ECE1D9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186D5-8B07-4A13-B459-8F0D1B15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0885E2-7A4D-4FF7-B9BE-31921596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FE0DA1-7AFD-40F6-97FF-6DC66B13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091C49-68B4-4589-91F0-B283FB773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7C6709-010A-4331-9226-D9B6D8336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3EFB00-F8BA-41F2-82EF-341E39B3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A38C19-AADC-45DA-8F94-F267C824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38B412-AD3F-4280-B7AB-FB6B1618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E76-289F-4AE5-BE09-2BB88AE4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E63-A7EE-4E7F-B693-4CAA3A0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1AD-7B9D-4E79-837B-C8F031E6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A0C-CE77-432D-A979-A55E6309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3E5-C4CD-4892-A322-0A345A9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1B6-1A08-4CF8-9B2E-12194861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D08-788D-4784-BD73-BE756F0A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A4D-3F87-4145-8E6C-4672C44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54B-A88E-4BFC-8A93-2D6AD4EE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03E-1940-49EE-BFB9-E027A257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A4C-1872-474E-99B2-FCCB7BF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2DA-482B-4097-9A51-6B86509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85A-6787-47FD-82FC-62DD8E3D7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ugawa Jap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cation of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0-18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okugawa-display"/>
          <p:cNvPicPr/>
          <p:nvPr/>
        </p:nvPicPr>
        <p:blipFill>
          <a:blip r:embed="rId1"/>
          <a:stretch/>
        </p:blipFill>
        <p:spPr>
          <a:xfrm>
            <a:off x="2743200" y="1828800"/>
            <a:ext cx="4248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33520"/>
            <a:ext cx="457200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pan witnessed dramatic population 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order to raise their standard of living, many families between 1700 and 1850, practiced contraception, late marriage, abortion, and infanticide (“thinning out the rice shoot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, which occurred mostly in rural communities with strained resources,  resulted in moderate population g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lec02_4nogu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ucian Soci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1828800"/>
            <a:ext cx="3733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ing E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 and Artis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tc_02_img0565"/>
          <p:cNvPicPr/>
          <p:nvPr/>
        </p:nvPicPr>
        <p:blipFill>
          <a:blip r:embed="rId1"/>
          <a:stretch/>
        </p:blipFill>
        <p:spPr>
          <a:xfrm>
            <a:off x="3657600" y="1905120"/>
            <a:ext cx="5486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80880" y="1981080"/>
            <a:ext cx="3886200" cy="4572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981080" y="2743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17524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066680" y="49528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609480" y="60199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38680" y="228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eror and Imperial Court Fami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477120" y="3429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5410080" y="3352680"/>
            <a:ext cx="83844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57150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63868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548640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548640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47712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m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6477840" y="4037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u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6477840" y="42663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n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5562720" y="4800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mers (peas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562720" y="5334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s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838080" y="5486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533520" y="6553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556272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h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5562720" y="6248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as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ltural Influences of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533520"/>
            <a:ext cx="457200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luence of China contin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education began with the study of Chinese language and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t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Japanese scholars wrote philosophical, religious, and legal works in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 people embraced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anism was the most influential philosophic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jpnbudda"/>
          <p:cNvPicPr/>
          <p:nvPr/>
        </p:nvPicPr>
        <p:blipFill>
          <a:blip r:embed="rId1"/>
          <a:stretch/>
        </p:blipFill>
        <p:spPr>
          <a:xfrm>
            <a:off x="4943520" y="1600200"/>
            <a:ext cx="42004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-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91440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Confucian values such as filial piety and loyalty to superiors was emphas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ose who had formal education (sons of merchants and government officials) received constant exposure to neo-Confucian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neo-Confucianism had become the official ideology of the Tokugawa baku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kampo2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ve Japanese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0" y="99072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scholars of “native learning” scorned neo-Confucianism and even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mphasized folk traditions, Japanese literature,  and the indigenous Shinto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cholars viewed Japanese people as superior to others (xenophob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himenawa_priest"/>
          <p:cNvPicPr/>
          <p:nvPr/>
        </p:nvPicPr>
        <p:blipFill>
          <a:blip r:embed="rId1"/>
          <a:stretch/>
        </p:blipFill>
        <p:spPr>
          <a:xfrm>
            <a:off x="228600" y="2209680"/>
            <a:ext cx="4000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800600" y="990720"/>
            <a:ext cx="4572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ies, a lively middle class emerged out of the merchan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Worlds,” entertainment quarters with teahouses, theaters, brothels and public baths offered escape from soci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 fiction, kabuki theater (bawdy skits), and bunraku (puppet theater) attracted many aud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bunraku"/>
          <p:cNvPicPr/>
          <p:nvPr/>
        </p:nvPicPr>
        <p:blipFill>
          <a:blip r:embed="rId1"/>
          <a:stretch/>
        </p:blipFill>
        <p:spPr>
          <a:xfrm>
            <a:off x="380880" y="1752480"/>
            <a:ext cx="41911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ian 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990720"/>
            <a:ext cx="7543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549,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esuit Francis Xav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to Japan and opened a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werful daimyo adopted Christianity and ordered their subjects to do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580’s about 150,000 Japanese had converted to Christia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kugawa shoguns restricted European access to Japan for fear Christianity might allow for alliances between daimyo and Europ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hist and Confucian scholars resented Christian conviction that their faith was the only true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converts became frustrated that they could not become priests or play leadership roles in the 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Christia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191120" y="466560"/>
            <a:ext cx="472428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12, shoguns began rigorous enforcement of decrees putting a halt to Christian 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tortured and executed European missionaries who refused to leave as well as Japanese Christians who refused to abandon their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ten executed victims by crucifixion or burning at the st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 anti-Christian campaign had claimed tens of thousands of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10083"/>
          <p:cNvPicPr/>
          <p:nvPr/>
        </p:nvPicPr>
        <p:blipFill>
          <a:blip r:embed="rId1"/>
          <a:stretch/>
        </p:blipFill>
        <p:spPr>
          <a:xfrm>
            <a:off x="1066680" y="1752480"/>
            <a:ext cx="2624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tch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62520" y="0"/>
            <a:ext cx="472428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1639, Dutch merchants became the principal source of information about Europe and the world beyond the 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Japanese scholars learned Dutch in order to communicate with the foreig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1720, Tokugawa authorities lifted the ban on foreign books and Dutch learning began to play a significant role in Japanese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art influenced Japanese scholars interested in anatomy, astronomy,  and bot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1868"/>
          <p:cNvPicPr/>
          <p:nvPr/>
        </p:nvPicPr>
        <p:blipFill>
          <a:blip r:embed="rId1"/>
          <a:stretch/>
        </p:blipFill>
        <p:spPr>
          <a:xfrm>
            <a:off x="304920" y="1447920"/>
            <a:ext cx="366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06280" y="685800"/>
            <a:ext cx="365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og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litary governor) ruled Japan through retainers who received political rights and large estates in return for militar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moto emperor was a figurehead and spent most of time performing shinto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Shogun3"/>
          <p:cNvPicPr/>
          <p:nvPr/>
        </p:nvPicPr>
        <p:blipFill>
          <a:blip r:embed="rId1"/>
          <a:stretch/>
        </p:blipFill>
        <p:spPr>
          <a:xfrm>
            <a:off x="4038480" y="114300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4229280" y="511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 ambitions of shoguns and retainers led to a seri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ivil wars in the 1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ent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ugawa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419720" y="304920"/>
            <a:ext cx="441936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end of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A series of military leaders brought about the unification of th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00 the last of the leader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kugawa Ieya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tablished a military government, the “Tokugawa bakufu” (tent gover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yasu and his descendants ruled the bakufu as shoguns from 1600 until the end of the Tokugawa dynasty in 18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tokugawa_ieyasu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g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419720" y="557280"/>
            <a:ext cx="4267080" cy="63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Tokugawa shoguns was to keep their regions calm and prevent the return of civil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s controll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im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eat names) who were powerful territorial lords who ruled most of Japan from their vast landhol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260 or so daimyo functioned as near absolute rulers within their dom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white_horse_shogun"/>
          <p:cNvPicPr/>
          <p:nvPr/>
        </p:nvPicPr>
        <p:blipFill>
          <a:blip r:embed="rId1"/>
          <a:stretch/>
        </p:blipFill>
        <p:spPr>
          <a:xfrm>
            <a:off x="0" y="1447920"/>
            <a:ext cx="3857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47960" y="4568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at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2280" y="60948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imyo maintained a government staff by military subordinates that were supported by judiciary, schools, and paper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aimyo established relationships with European mariners from whom they learned how to manufacture and use gunpowder weap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last decades of the sengoku era, cannons and personal firearms were significant in Japanese confl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engoku_Title"/>
          <p:cNvPicPr/>
          <p:nvPr/>
        </p:nvPicPr>
        <p:blipFill>
          <a:blip r:embed="rId1"/>
          <a:stretch/>
        </p:blipFill>
        <p:spPr>
          <a:xfrm>
            <a:off x="5029200" y="1295280"/>
            <a:ext cx="366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0600" y="6854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 the Daim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880" y="0"/>
            <a:ext cx="457200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castle of Edo, modern-day Tokyo, the shogun governed his own domain and tried to control the daimyo in their terri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s institu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alternate attendance,” which required daimyo to spend every other year in Edo at the Tokugawa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intended to keep an eye on the daimyo and encourage them to spend their money and lavish homes and lives in Edo rather than building ar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kameido-HiroshigeEdoMeisho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1"/>
          <p:cNvSpPr/>
          <p:nvPr/>
        </p:nvSpPr>
        <p:spPr>
          <a:xfrm>
            <a:off x="5105520" y="5257800"/>
            <a:ext cx="3429000" cy="1371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Louis XIV and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00600" y="6854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Foreign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609480"/>
            <a:ext cx="45720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 closely controlled relations between Japan and the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knew that Spanish forces had conquered the Philippine Islands in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eared that Europeans might cause serious problems by making alliances with daimyo and supplying them with weap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ap-s"/>
          <p:cNvPicPr/>
          <p:nvPr/>
        </p:nvPicPr>
        <p:blipFill>
          <a:blip r:embed="rId1"/>
          <a:stretch/>
        </p:blipFill>
        <p:spPr>
          <a:xfrm>
            <a:off x="5172120" y="1752480"/>
            <a:ext cx="363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Foreign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0" y="533520"/>
            <a:ext cx="457200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630’s, the shog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bade Japanese from going abro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ed the construction of large shi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elled Europeans from Jap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ed foreign merchants from trading in Japanese por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trade with Asian lan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d small numbers of Chinese and Dutch merchants to trade in Nagasa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1"/>
          <p:cNvSpPr/>
          <p:nvPr/>
        </p:nvSpPr>
        <p:spPr>
          <a:xfrm>
            <a:off x="4022640" y="838080"/>
            <a:ext cx="838440" cy="685800"/>
          </a:xfrm>
          <a:custGeom>
            <a:avLst/>
            <a:gdLst/>
            <a:ahLst/>
            <a:rect l="l" t="t" r="r" b="b"/>
            <a:pathLst>
              <a:path w="838200" h="685800">
                <a:moveTo>
                  <a:pt x="1" y="261952"/>
                </a:moveTo>
                <a:lnTo>
                  <a:pt x="320166" y="261953"/>
                </a:lnTo>
                <a:lnTo>
                  <a:pt x="419100" y="0"/>
                </a:lnTo>
                <a:lnTo>
                  <a:pt x="518034" y="261953"/>
                </a:lnTo>
                <a:lnTo>
                  <a:pt x="838199" y="261952"/>
                </a:lnTo>
                <a:lnTo>
                  <a:pt x="579179" y="423846"/>
                </a:lnTo>
                <a:lnTo>
                  <a:pt x="678117" y="685798"/>
                </a:lnTo>
                <a:lnTo>
                  <a:pt x="419100" y="523901"/>
                </a:lnTo>
                <a:lnTo>
                  <a:pt x="160083" y="685798"/>
                </a:lnTo>
                <a:lnTo>
                  <a:pt x="259021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P7_4"/>
          <p:cNvPicPr/>
          <p:nvPr/>
        </p:nvPicPr>
        <p:blipFill>
          <a:blip r:embed="rId1"/>
          <a:stretch/>
        </p:blipFill>
        <p:spPr>
          <a:xfrm>
            <a:off x="304920" y="1495440"/>
            <a:ext cx="380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and Econom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1600200"/>
            <a:ext cx="4572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reased agricultur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rop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thods of water control and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fertilize increased ric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of cotton, silk, indigo, and sake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from subsistence farming to market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c02_4nogu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9:21:32Z</dcterms:created>
  <dc:creator>Kathy Corder</dc:creator>
  <dc:description/>
  <dc:language>en-US</dc:language>
  <cp:lastModifiedBy>Windows User</cp:lastModifiedBy>
  <cp:lastPrinted>2014-06-02T11:21:37Z</cp:lastPrinted>
  <dcterms:modified xsi:type="dcterms:W3CDTF">2014-06-02T11:32:14Z</dcterms:modified>
  <cp:revision>23</cp:revision>
  <dc:subject/>
  <dc:title>Slide 1</dc:title>
</cp:coreProperties>
</file>